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6A51-103F-440C-96F8-61ED93CA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3C36-310B-480C-B7F8-75812436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EBF9-8945-4EF4-AAAC-FCA4F7D0B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97AB-19AC-431D-8959-D8E328A06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097D-B7F4-4459-A94D-9DF143D6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A319-DBC7-40AE-A232-386AA844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7748-78BE-49E3-844F-5BDC1D9D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3707-1B41-4DE8-81C1-B0270AED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5BBC-9BE9-46FF-BF01-2E5A45A5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39C4-53D2-47CA-98D1-C11558A5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81C2-593A-4A59-AC7C-AF99CAB9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5516-5280-41C9-9F6E-D4588764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D948-F894-41BF-8E87-E4F4B1408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Dismissal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Go in peac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refreshed and renew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in the eternal love of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name of Christ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3:08:04Z</dcterms:created>
  <dc:creator>Anon Anon</dc:creator>
  <dc:description/>
  <dc:language>en-US</dc:language>
  <cp:lastModifiedBy>Anon Anon</cp:lastModifiedBy>
  <dcterms:modified xsi:type="dcterms:W3CDTF">2005-08-09T05:27:48Z</dcterms:modified>
  <cp:revision>7</cp:revision>
  <dc:subject/>
  <dc:title>PowerPoint Presentation</dc:title>
</cp:coreProperties>
</file>